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555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6278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24382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6278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1460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6278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4382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6278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66ff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38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3124080" cy="281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4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mcangyfrifwch yr ongl y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2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1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7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45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4160" y="556416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7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710160" y="2809800"/>
          <a:ext cx="172368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2809800"/>
                    <a:ext cx="172368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710160" y="2809800"/>
          <a:ext cx="1723680" cy="123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0160" y="2809800"/>
                    <a:ext cx="172368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710160" y="2809800"/>
          <a:ext cx="1723680" cy="123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0160" y="2809800"/>
                    <a:ext cx="172368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125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ONGLAU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7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8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Beth yw cyfanswm onglau mewn triongl ongl sgw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âr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36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18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9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45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448452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18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24360" y="3068640"/>
            <a:ext cx="2016360" cy="10080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137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ONGLAU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16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Rydw i’n wynebu’r gorllewin ac yn troi tri ongl sgw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âr clocwedd.  I ba gyfeiriad ydw i’n wynebu naw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Dwy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De Dwy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De Orllew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551664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148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ONGLAU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32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06064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Amcangyfrifwch yr ongl yma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7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6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30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26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558972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30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780000" y="2637000"/>
          <a:ext cx="168588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637000"/>
                    <a:ext cx="16858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161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ONGLAU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64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1337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Beth yw cyfanswm yr onglau ar linell sy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8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9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27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1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16000" y="501336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8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43280" y="2908440"/>
          <a:ext cx="3448080" cy="102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908440"/>
                    <a:ext cx="344808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3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174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ONGLAU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125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2438280"/>
            <a:ext cx="8207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De Orllew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De Ddwy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Gogledd Orllew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Gogledd Ddwy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16000" y="556416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Gogledd Orllew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2276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Rydw i’n wynebu De Orllewin.  Rwy’n troi un ongl sgw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âr clocwedd.  I ba gyfeiriad ydw i’n wynebu naw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186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ONGLAU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250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2438280"/>
            <a:ext cx="85690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4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108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16000" y="505944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 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–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197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ONGLAU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826920" y="249228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awl ongl sgw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âr sydd mewn 3 troad cyf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500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2438280"/>
            <a:ext cx="8207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108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72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6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62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450864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72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227664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Beth yw gwerth yr ongl 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67240" y="2060640"/>
            <a:ext cx="3237120" cy="179388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211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ONGLAU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1000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2438280"/>
            <a:ext cx="8207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298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72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6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62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614052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62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508720" y="1773360"/>
            <a:ext cx="3025800" cy="2489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26920" y="227664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Beth yw gwerth yr ongl c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224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ONGLAU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500"/>
                            </p:stCondLst>
                            <p:childTnLst>
                              <p:par>
                                <p:cTn id="5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24000" y="42210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360" y="274320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4869000"/>
            <a:ext cx="84582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2349360"/>
            <a:ext cx="8458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500" spc="-1" strike="noStrike">
                <a:solidFill>
                  <a:srgbClr val="cc66ff"/>
                </a:solidFill>
                <a:latin typeface="Arial Black"/>
              </a:rPr>
              <a:t>Sawl pwynt sydd ganddoch chi?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0" y="53337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Basic Sans Light SF"/>
              </a:rPr>
              <a:t>Cyflwynwraig: Miss Thomas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1979640" y="549360"/>
            <a:ext cx="5089320" cy="5759280"/>
            <a:chOff x="1979640" y="549360"/>
            <a:chExt cx="5089320" cy="5759280"/>
          </a:xfrm>
        </p:grpSpPr>
        <p:sp>
          <p:nvSpPr>
            <p:cNvPr id="42" name=""/>
            <p:cNvSpPr txBox="1"/>
            <p:nvPr/>
          </p:nvSpPr>
          <p:spPr>
            <a:xfrm>
              <a:off x="2195640" y="549360"/>
              <a:ext cx="4427280" cy="5759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1979640" y="3730680"/>
              <a:ext cx="5089320" cy="121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ONGLAU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419640" y="1225440"/>
              <a:ext cx="2166840" cy="234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280" y="13489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100"/>
            </a:br>
            <a:r>
              <a:rPr b="0" lang="en-GB" sz="8800" spc="-1" strike="noStrike">
                <a:solidFill>
                  <a:srgbClr val="cc66ff"/>
                </a:solidFill>
                <a:latin typeface="Arial Black"/>
              </a:rPr>
              <a:t>Prawf Pen</a:t>
            </a:r>
            <a:br>
              <a:rPr sz="8800"/>
            </a:br>
            <a:r>
              <a:rPr b="0" lang="en-GB" sz="8800" spc="-1" strike="noStrike">
                <a:solidFill>
                  <a:srgbClr val="cc66ff"/>
                </a:solidFill>
                <a:latin typeface="Arial Black"/>
              </a:rPr>
              <a:t>Blwyddyn 8</a:t>
            </a:r>
            <a:br>
              <a:rPr sz="8800"/>
            </a:br>
            <a:endParaRPr b="0" lang="en-US" sz="88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11280" y="692280"/>
            <a:ext cx="8137440" cy="90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700" spc="-1" strike="noStrike">
                <a:solidFill>
                  <a:srgbClr val="000000"/>
                </a:solidFill>
                <a:latin typeface="Architect"/>
                <a:ea typeface="Arial"/>
              </a:rPr>
              <a:t>Ydych chi’n barod blwyddyn 8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24000" y="476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  <a:ea typeface="Arial"/>
              </a:rPr>
              <a:t>Cwestiwn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1844640"/>
            <a:ext cx="84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entury Gothic"/>
                <a:ea typeface="Arial"/>
              </a:rPr>
              <a:t>Ysgrifennwch ffaith am y rhif </a:t>
            </a:r>
            <a:r>
              <a:rPr b="1" lang="en-GB" sz="8000" spc="-1" strike="noStrike">
                <a:solidFill>
                  <a:srgbClr val="ff3300"/>
                </a:solidFill>
                <a:latin typeface="Century Gothic"/>
                <a:ea typeface="Arial"/>
              </a:rPr>
              <a:t>1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24000" y="476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  <a:ea typeface="Arial"/>
              </a:rPr>
              <a:t>Cwestiwn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276640"/>
            <a:ext cx="8893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entury Gothic"/>
                <a:ea typeface="Arial"/>
              </a:rPr>
              <a:t>Beth yw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entury Gothic"/>
                <a:ea typeface="Arial"/>
              </a:rPr>
              <a:t>-12 + 16 - 5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4000" y="476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  <a:ea typeface="Arial"/>
              </a:rPr>
              <a:t>Cwestiwn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2276640"/>
            <a:ext cx="849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entury Gothic"/>
                <a:ea typeface="Arial"/>
              </a:rPr>
              <a:t>Beth yw hanner 160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24000" y="476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  <a:ea typeface="Arial"/>
              </a:rPr>
              <a:t>Cwestiwn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227664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entury Gothic"/>
                <a:ea typeface="Arial"/>
              </a:rPr>
              <a:t>Beth yw 160 </a:t>
            </a:r>
            <a:r>
              <a:rPr b="1" lang="en-US" sz="8000" spc="-1" strike="noStrike">
                <a:solidFill>
                  <a:srgbClr val="000000"/>
                </a:solidFill>
                <a:latin typeface="Century Gothic"/>
                <a:ea typeface="Arial"/>
              </a:rPr>
              <a:t>÷ 4</a:t>
            </a:r>
            <a:r>
              <a:rPr b="1" lang="en-GB" sz="8000" spc="-1" strike="noStrike">
                <a:solidFill>
                  <a:srgbClr val="000000"/>
                </a:solidFill>
                <a:latin typeface="Century Gothic"/>
                <a:ea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24000" y="476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  <a:ea typeface="Arial"/>
              </a:rPr>
              <a:t>Cwestiwn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227664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entury Gothic"/>
                <a:ea typeface="Arial"/>
              </a:rPr>
              <a:t>Beth yw 168 + 7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4000" y="476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  <a:ea typeface="Arial"/>
              </a:rPr>
              <a:t>Cwestiwn 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1916280"/>
            <a:ext cx="849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entury Gothic"/>
                <a:ea typeface="Arial"/>
              </a:rPr>
              <a:t>Pa rhif cysefin sy’n fwy na 10 ond llai na 20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24000" y="476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  <a:ea typeface="Arial"/>
              </a:rPr>
              <a:t>Cwestiwn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1628640"/>
            <a:ext cx="849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entury Gothic"/>
                <a:ea typeface="Arial"/>
              </a:rPr>
              <a:t>Beth yw gwerth y rhif coch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4437000"/>
            <a:ext cx="849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000000"/>
                </a:solidFill>
                <a:latin typeface="Century Gothic"/>
                <a:ea typeface="Arial"/>
              </a:rPr>
              <a:t>1</a:t>
            </a:r>
            <a:r>
              <a:rPr b="1" lang="en-GB" sz="8000" spc="-1" strike="noStrike">
                <a:solidFill>
                  <a:srgbClr val="ff3300"/>
                </a:solidFill>
                <a:latin typeface="Century Gothic"/>
                <a:ea typeface="Arial"/>
              </a:rPr>
              <a:t>6</a:t>
            </a:r>
            <a:r>
              <a:rPr b="1" lang="en-GB" sz="8000" spc="-1" strike="noStrike">
                <a:solidFill>
                  <a:srgbClr val="000000"/>
                </a:solidFill>
                <a:latin typeface="Century Gothic"/>
                <a:ea typeface="Arial"/>
              </a:rPr>
              <a:t>1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24000" y="476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  <a:ea typeface="Arial"/>
              </a:rPr>
              <a:t>Cwestiwn 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62864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entury Gothic"/>
                <a:ea typeface="Arial"/>
              </a:rPr>
              <a:t>Nifer y diwrnodau mewn wythnos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3789360"/>
            <a:ext cx="31683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900" spc="-1" strike="noStrike">
                <a:solidFill>
                  <a:srgbClr val="000000"/>
                </a:solidFill>
                <a:latin typeface="Century Gothic"/>
                <a:ea typeface="Arial"/>
              </a:rPr>
              <a:t>+16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857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cc66ff"/>
                </a:solidFill>
                <a:latin typeface="Arial Black"/>
              </a:rPr>
              <a:t>Hyderus?</a:t>
            </a:r>
            <a:endParaRPr b="0" lang="en-US" sz="10600" spc="-1" strike="noStrike">
              <a:solidFill>
                <a:srgbClr val="cc66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24000" y="476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  <a:ea typeface="Arial"/>
              </a:rPr>
              <a:t>Cwestiwn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1628640"/>
            <a:ext cx="849780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entury Gothic"/>
                <a:ea typeface="Arial"/>
              </a:rPr>
              <a:t>Beth yw</a:t>
            </a:r>
            <a:r>
              <a:rPr b="1" lang="en-GB" sz="80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3284640"/>
            <a:ext cx="82803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900" spc="-1" strike="noStrike">
                <a:solidFill>
                  <a:srgbClr val="000000"/>
                </a:solidFill>
                <a:latin typeface="Century Gothic"/>
                <a:ea typeface="Arial"/>
              </a:rPr>
              <a:t>16 + 5 - 7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4000" y="476280"/>
            <a:ext cx="54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entury Gothic"/>
                <a:ea typeface="Arial"/>
              </a:rPr>
              <a:t>Cwestiwn 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1628640"/>
            <a:ext cx="8497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000000"/>
                </a:solidFill>
                <a:latin typeface="Century Gothic"/>
                <a:ea typeface="Arial"/>
              </a:rPr>
              <a:t>Beth yw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58920" y="3860640"/>
            <a:ext cx="6408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000000"/>
                </a:solidFill>
                <a:latin typeface="Tahoma"/>
                <a:ea typeface="Arial"/>
              </a:rPr>
              <a:t>16 x 3 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916360" y="198360"/>
            <a:ext cx="3009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Bl. 8 : Adolyg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-92160" y="692280"/>
            <a:ext cx="30628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Gwaith Rhif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1)    8 x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2)    6 x 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3)    7 x 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4)    55 + 26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5)    60 – 1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6)    32 + __ = 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7)    £10 - £2.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8)    £26 + £5.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98360" y="981000"/>
            <a:ext cx="6443280" cy="55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Comic Sans MS"/>
              </a:rPr>
              <a:t>Gwaith Rhif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1)  Mae brechdan yn costio £1.20. Beth yw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cost 8 brechda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2)  Mae tocyn theatr yn costio £34. Beth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yw cost 20 tocy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3)  Mae 4 pecyn o greision yn costio 80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eth yw cost 7 pecyn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4)  Ysgrifennwch y 6 rhif cysefin cynta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5)  Ysgrifennwch lluosrif o 4 sydd rhw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45 a 55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6)   Ysgrifennwch ffactorau 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83664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 rot="21130800">
            <a:off x="6858000" y="3018960"/>
            <a:ext cx="1150920" cy="1143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6137280" y="1268280"/>
            <a:ext cx="1171440" cy="6955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5187960" y="1413000"/>
            <a:ext cx="752400" cy="5522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380360" y="1413000"/>
            <a:ext cx="752400" cy="5522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1187280" y="1413000"/>
            <a:ext cx="1143000" cy="5508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6"/>
          <a:stretch/>
        </p:blipFill>
        <p:spPr>
          <a:xfrm>
            <a:off x="2268360" y="1413000"/>
            <a:ext cx="567000" cy="576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-92880" y="237960"/>
            <a:ext cx="502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C.  Cyfrifwch yr onglau coll iso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1280" y="1989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763640" y="1052280"/>
            <a:ext cx="115272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72520" y="1633680"/>
            <a:ext cx="60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54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70960" y="1633680"/>
            <a:ext cx="33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50960" y="957240"/>
            <a:ext cx="42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198900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732720" y="1125000"/>
            <a:ext cx="1511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5292720" y="1197000"/>
            <a:ext cx="144000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35560" y="1628640"/>
            <a:ext cx="60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1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01600" y="1628640"/>
            <a:ext cx="60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7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14920" y="1557360"/>
            <a:ext cx="35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4240" y="2470320"/>
            <a:ext cx="42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92360" y="2492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92360" y="3429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9236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79640" y="321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826920" y="2708280"/>
            <a:ext cx="865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71640" y="3429000"/>
            <a:ext cx="72072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51600" y="3452760"/>
            <a:ext cx="71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0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3080" y="3308400"/>
            <a:ext cx="5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8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1240" y="2852640"/>
            <a:ext cx="31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03120" y="2492280"/>
            <a:ext cx="42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46560" y="342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570560" y="2421000"/>
            <a:ext cx="865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0560" y="3429000"/>
            <a:ext cx="10810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788000" y="3429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4787640" y="3213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282560" y="3429000"/>
            <a:ext cx="28764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26760" y="3002040"/>
            <a:ext cx="48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42720" y="3457440"/>
            <a:ext cx="5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7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46000" y="3668760"/>
            <a:ext cx="5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3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79680" y="2470320"/>
            <a:ext cx="424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380360" y="2421000"/>
            <a:ext cx="71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451640" y="2636640"/>
            <a:ext cx="72072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00160" y="2781360"/>
            <a:ext cx="5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7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90560" y="3506760"/>
            <a:ext cx="35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109440" y="404280"/>
            <a:ext cx="396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1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1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1 pwy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2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- 2 pwy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3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5 pwy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4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10 pwy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5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20 pwy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6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40 pwy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7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80 pwy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819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476280"/>
            <a:ext cx="5292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8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160 pwy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9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320 pwy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10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640 pwy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11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1250 pwy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12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2500 pwy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13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5000 pwy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66ff"/>
                </a:solidFill>
                <a:latin typeface="Arial Black"/>
              </a:rPr>
              <a:t>14</a:t>
            </a: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 – 10000 pwy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1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4382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Rydym yn mesur onglau gyda …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cwmpaw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Ongly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pren mes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Onglw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450864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Ongly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56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ONGLAU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2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438280"/>
            <a:ext cx="8062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Ongl 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Ongl Af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Ongl Atbly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Ongl Sgw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â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501336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 – Ongl Lem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40000" y="2349360"/>
          <a:ext cx="1457280" cy="14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349360"/>
                    <a:ext cx="1457280" cy="14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4067280" y="198900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262240"/>
            <a:ext cx="43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Gelwir yr ongl yma’n……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71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ONGLAU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5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2438280"/>
            <a:ext cx="8062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Ongl 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Ongl Af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Ongl Atbly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Ongl Sgw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â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450864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 – Ongl Aflem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198900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2262240"/>
            <a:ext cx="43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Gelwir yr ongl yma’n……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340000" y="2205000"/>
          <a:ext cx="16383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205000"/>
                    <a:ext cx="1638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86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ONGLAU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24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1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9131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Black"/>
              </a:rPr>
              <a:t>Mae ongl lem…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yn hafal i 9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yn fwy na 9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5589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yn llai na 9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rhwng 9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a 18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556416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– yn llai na 90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97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ONGLAU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66ff"/>
                </a:solidFill>
                <a:latin typeface="Arial Black"/>
              </a:rPr>
              <a:t>20 pwynt</a:t>
            </a:r>
            <a:endParaRPr b="0" lang="en-US" sz="5400" spc="-1" strike="noStrike">
              <a:solidFill>
                <a:srgbClr val="cc66ff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4936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 Black"/>
              </a:rPr>
              <a:t>Rydw i’n wynebu’r gogledd ac yn troi un ongl sgw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âr clocwedd. I ba gyfeiriad ydw i’n wynebu naw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502920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B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4956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Gogle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556272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Gorllew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6095880"/>
            <a:ext cx="7162920" cy="4572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Dwy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6140520"/>
            <a:ext cx="7162920" cy="457200"/>
          </a:xfrm>
          <a:prstGeom prst="flowChartTerminator">
            <a:avLst/>
          </a:prstGeom>
          <a:solidFill>
            <a:srgbClr val="ff6600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ff"/>
                </a:solidFill>
                <a:latin typeface="Arial Black"/>
              </a:rPr>
              <a:t>D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 - Dwy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4000" y="333360"/>
            <a:ext cx="2447640" cy="2448000"/>
            <a:chOff x="324000" y="333360"/>
            <a:chExt cx="2447640" cy="2448000"/>
          </a:xfrm>
        </p:grpSpPr>
        <p:sp>
          <p:nvSpPr>
            <p:cNvPr id="108" name=""/>
            <p:cNvSpPr txBox="1"/>
            <p:nvPr/>
          </p:nvSpPr>
          <p:spPr>
            <a:xfrm>
              <a:off x="427680" y="333360"/>
              <a:ext cx="2129400" cy="24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Arial Black"/>
                </a:rPr>
                <a:t>Cwis Blwyddyn 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324000" y="1685520"/>
              <a:ext cx="2447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Arial Black"/>
                </a:rPr>
                <a:t>ONGLAU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016280" y="620640"/>
              <a:ext cx="1041840" cy="99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12:35:07Z</dcterms:created>
  <dc:creator>Alison J. Purvis</dc:creator>
  <dc:description/>
  <dc:language>en-US</dc:language>
  <cp:lastModifiedBy>Betsan Wyn Thomas</cp:lastModifiedBy>
  <cp:lastPrinted>2000-12-04T09:55:57Z</cp:lastPrinted>
  <dcterms:modified xsi:type="dcterms:W3CDTF">2007-06-05T21:36:16Z</dcterms:modified>
  <cp:revision>71</cp:revision>
  <dc:subject/>
  <dc:title>Who wants to be a Physiology Millionaire?</dc:title>
</cp:coreProperties>
</file>